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3E76-215D-4517-969B-A660CB4E5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FA35-9D1B-4500-8BD5-F11EA0D2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1888-C2D5-4458-9507-A7184317B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061D-C228-4F2C-A89F-9D354FF1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669B-AC83-4517-BE72-45D3CC107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6BDF-3886-4875-AB32-7CD892C4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2317-7F55-4BEE-A6DB-C3A0B5DE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2A8E-DC37-42D6-85BF-8E8AC09D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0FA1-AB6B-4BD0-9347-6BC4801C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E5597-5CDF-42B9-A102-BAE7C83A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044A-C722-4686-A13C-02A91664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1761-36B7-42A2-BE7C-1A79F403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9CBB-5961-47B5-9424-A0F985BC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C9FD-DB6A-42C7-828D-C9A9E770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C8DD-C446-464D-AACC-428F77903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A570-1EAB-412F-B59C-D2BDEBB5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85640"/>
            <a:ext cx="264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72DC9-C0DB-46C4-98CD-E6F869680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9774-691D-46B6-961A-49834DDB7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794C-6EF7-44D3-BAFD-6A093D38B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3418-5940-4C6E-BA56-220A3A58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822C-A6BD-4B8E-903E-45580CAF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B1D2-4C65-4F2B-A259-06A40B77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8564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42730-5047-4F43-9002-D54BC2F4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85640"/>
            <a:ext cx="8229600" cy="226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4F87-F6BC-48EE-83DA-92A45A17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2F534-1904-4A95-8C20-C03B96BB18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3D74-B4D6-4A8F-987D-5EAAE2F59F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71720" y="1357200"/>
            <a:ext cx="7000560" cy="20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00200" y="3643200"/>
            <a:ext cx="4214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с.Павлов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84807"/>
                </a:solidFill>
                <a:latin typeface="Arial"/>
                <a:ea typeface="Times New Roman"/>
              </a:rPr>
              <a:t>Алтай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856880" y="1600200"/>
            <a:ext cx="682956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content.foto.mail.ru/bk/u1177/_blogs/i-1108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cle.pickens.k12.sc.us/images/announcement/142542-2081126-857.gi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C:\Documents and Settings\User\Рабочий стол\картинки на школьныю тему\Рисунок3.png"/>
          <p:cNvPicPr/>
          <p:nvPr/>
        </p:nvPicPr>
        <p:blipFill>
          <a:blip r:embed="rId2"/>
          <a:stretch/>
        </p:blipFill>
        <p:spPr>
          <a:xfrm>
            <a:off x="357120" y="1428840"/>
            <a:ext cx="142884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05:54:40Z</dcterms:created>
  <dc:creator>Comp</dc:creator>
  <dc:description/>
  <dc:language>en-US</dc:language>
  <cp:lastModifiedBy>Comp</cp:lastModifiedBy>
  <dcterms:modified xsi:type="dcterms:W3CDTF">2011-08-01T00:22:11Z</dcterms:modified>
  <cp:revision>4</cp:revision>
  <dc:subject/>
  <dc:title>Слайд 1</dc:title>
</cp:coreProperties>
</file>